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5F23-8652-4217-83CF-C3FE77FC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8F8-4885-4463-BA10-EF9F7353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CFBA-3CAE-4AC0-9ADE-6102FC41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561B-F046-4FA2-91AE-B20FAEA9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F60-52FF-4062-A0CE-6497A677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7247-1A9A-4026-8272-A8E0520D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BB0C-497E-4356-B05E-6D63A983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32C7-35BE-40B0-99A8-7BE49397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2EDB-B441-40C6-9415-75AAC7AD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586D-D92A-4228-A7D3-07B40ABF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C3DC-7F02-45F2-A1AD-F8E2D808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F3E3-2D1D-4E1C-BF87-9FE1FB38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068D-D067-4323-AB23-4341F53D4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57150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KE SURE YOUR WORK IS WORTHY OF EXTRA-CREDIT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21:59Z</dcterms:created>
  <dc:creator>gehadde</dc:creator>
  <dc:description/>
  <dc:language>en-US</dc:language>
  <cp:lastModifiedBy>gehadde</cp:lastModifiedBy>
  <dcterms:modified xsi:type="dcterms:W3CDTF">2012-02-17T14:22:29Z</dcterms:modified>
  <cp:revision>1</cp:revision>
  <dc:subject/>
  <dc:title>Slide 1</dc:title>
</cp:coreProperties>
</file>